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576B-0FBC-4395-972D-B4D802C9D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F874-A0F3-402D-9E59-2493434FC6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0977-C815-498D-88B6-4E25937A33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1DF8-1697-4A89-90A8-59D8CE3853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DA17-7978-49DF-AE20-122A51B8D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E93-8D6E-4914-ADB4-A571C5779B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484-F5F2-4E45-92EB-6766D2EB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56F-E575-40A1-BF54-E7CE8C6F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713-6962-4289-9031-3277E07B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04A-3AE1-47AD-8E16-38DC1B41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0429-9419-4DB5-9A27-3F92A22B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CB88-427F-4DDF-965B-F297CA52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3945-0DCE-46E9-A54B-66016D7F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71F2-266E-4523-9608-9B7F88B9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7C3B-AA42-4157-8004-2660ED6E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02FA-71B2-47D8-83F4-1B11B387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E128-987D-4BD0-97FB-BF1C49C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7DC-1CD2-462C-AA59-E95BB95C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0018-E997-4F5E-A0B0-7FAF76C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F13A-C9E1-4EE0-979D-E3B26C52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8665-7FC5-4AF6-BC68-EA47952E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B1D3-9076-4549-8BD6-F63DFE94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C25D-CA10-46AA-B117-45F9C604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76B-9572-4401-B4C1-E53FB202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5D0-3F08-414F-81BD-8034C7E1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55E-565D-4D9F-8ED3-50AE7BAB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7B3-0198-4F21-A7E6-927E42CA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67B-239B-44B8-9532-43403A7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29A-5CD8-4D5E-A23B-1337A79B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45A-65B9-4463-A274-707661A5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73D2-9BCB-4707-87F2-6B0CFDABF8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00D7-C3EB-4C68-BC57-403D12BC047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w.umkc.edu/faculty/projects/FTrials/conlaw/supremebuilding.jpg&amp;imgrefurl=http://www.law.umkc.edu/faculty/projects/FTrials/conlaw/supremecourtintro.html&amp;usg=__NClfUeBPD1HRTZYdhIkg9xR8Wtk=&amp;h=359&amp;w=360&amp;sz=28&amp;hl=en&amp;start=1&amp;tbnid=-a3q2IKd90FnqM:&amp;tbnh=121&amp;tbnw=121&amp;prev=/images%3Fq%3Dcourt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sgv.org/atf/cf/%257B23E96A35-4C75-41EE-BDDD-4BD3A3B59010%257D/GAVEL_COURT.JPG&amp;imgrefurl=http://www.csgv.org/site/c.pmL5JnO7KzE/b.3509331/&amp;usg=__azBWbjaBz_yXfLf6UcVPvWxEYZY=&amp;h=860&amp;w=558&amp;sz=574&amp;hl=en&amp;start=3&amp;tbnid=xDrU5E2KY2E_NM:&amp;tbnh=145&amp;tbnw=94&amp;prev=/images%3Fq%3Dcourt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ob.montevallo.edu/MIS267/SteerJF/mai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israel.org/Eng/_Uploads/180courtHammer.jpg&amp;imgrefurl=http://www.aisrael.org/Eng/Index.asp%3FArticleID%3D180%26CategoryID%3D60&amp;usg=__H-8x1BduxpfkM9Wyf_OcCx0HYLk=&amp;h=300&amp;w=403&amp;sz=26&amp;hl=en&amp;start=20&amp;tbnid=l0l6yFu8SJ3_oM:&amp;tbnh=92&amp;tbnw=124&amp;prev=/images%3Fq%3Dcourt%26gbv%3D2%26ndsp%3D18%26hl%3Den%26sa%3DN%26start%3D1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lipart.peirceinternet.com/png/schoolhouse1.png&amp;imgrefurl=http://clipart.peirceinternet.com/educ.html&amp;usg=__fF-BrF9KRxJvTkzTKH4cKYsUnrk=&amp;h=331&amp;w=361&amp;sz=18&amp;hl=en&amp;start=13&amp;tbnid=J50M7FHvdr8NIM:&amp;tbnh=111&amp;tbnw=121&amp;prev=/images%3Fq%3Dschool%2Bhouse%26gbv%3D2%26hl%3De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2770200" y="45720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Religion in the Public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533520" y="9144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ublic Schools may not inculcate nor inhibit religion.  Schools must be places where religion and religious conviction are treated with fairness and respect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533520" y="2413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ongress shall make no law respecting an establishment of religion, or prohibiting the free exercise thereof, or abridging the freedom of speech, or of the press; or the right of the people peaceably to assemble, and to petition the government for a redress of grievan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0080" y="198108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First Amend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85800" y="4191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have a secular purpos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do not have the principal or primary effect o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dvanc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nhibi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eligio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do not foster an excessive entanglement of government with relig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85800" y="3657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Lemon v. Kurtzman    (Lemon Tes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http://tbn2.google.com/images?q=tbn:-a3q2IKd90FnqM:http://www.law.umkc.edu/faculty/projects/FTrials/conlaw/supremebuild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45720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Santa Fe Independent School District v. Doe 530 U. S. 290 (2000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he Court ruled prayer over a loudspeaker at a government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ponsored event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government property (football game on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istrict property) is a violation of the Establishment Cla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74200" y="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1.  Student Pray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09480" y="2274840"/>
            <a:ext cx="815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tablishment Clause does not prohibit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rely priva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eligious spee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dents may read Bibles, say grace, say prayer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nytime it is not disruptive to the learning pro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 gatherings are ok (Meet at Pol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 may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neither discourage or encour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3520" y="175248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Student Prayer and  Religious Discus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33520" y="39625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2.  Graduation Prayers and Baccalaureate Activ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3520" y="4495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e v. Weisman 505 U. S. 577 (199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Ruled graduation prayers unconstitut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40000" y="54100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calaureate Activ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57200" y="5934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chool may not extend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referenti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reatment to baccalaureate ceremonies and may in some instances be obligated to disclaim official endorsement of such ceremonie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2" descr="http://tbn0.google.com/images?q=tbn:xDrU5E2KY2E_NM:http://www.csgv.org/atf/cf/%257B23E96A35-4C75-41EE-BDDD-4BD3A3B59010%257D/GAVEL_COU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5211720"/>
            <a:ext cx="1066680" cy="164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533520" y="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3.  Participation in or Encouragement of Religious 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457200"/>
            <a:ext cx="77724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eachers and school administrators or employees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acting in those capacities,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are representatives of the sta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are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prohibit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y the establishment claus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rom soliciting or encouragin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ligious activity, and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from participa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such activity with stud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14479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mployees also are prohibited from discouraging activity because of its religious content, and from soliciting or encouraging anti-religious activi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23440" y="243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4.  Religion in School Curricul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33520" y="28954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Religion is a natural part of history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hich is included in the approved curriculum in S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the topic is addressed, th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mphasis must be purely academ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not devotio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y teach about relig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its influence on areas such as art, music, literature, and social stud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57200" y="45720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5. Religious Content in Student Assign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09480" y="51037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may express their beliefs about relig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the form of homework, artwork, and other written and oral assignments free of discrimination based on the religious content of their submiss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ch home and classroom work should be judged by ordinary academic standards of substance and relevance and against other legitimate pedagogical concerns identified by the schoo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USA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685800" y="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6. Distribution of  Religious Litera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09480" y="6094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generally shall not permit formal distribu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f any materials from any non-school organization, regardless of the content of the materia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on school proper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 Accordingly, students generally should not distribute flyers to all students on a mass level at specific established locations at the school. 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can distribute information on an informal basis that is not disrup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09480" y="2438280"/>
            <a:ext cx="8077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have a right to distribute religious literature to their schoolmates on the same terms as they are permitted to distribute other literatu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at is unrelated to school curriculum or activities.  Schools may impose reasonable time, place, and manner on distribution of religious literature as they do on nonschool literature generall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09480" y="41148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7.  Student Participation in Religious Events Before and After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85800" y="4800600"/>
            <a:ext cx="7620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here is no legal reason not to allow students to participate in religious events “before and after school,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hich do not interfere with instructional time or the educational proc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2" descr="http://tbn2.google.com/images?q=tbn:l0l6yFu8SJ3_oM:http://www.aisrael.org/Eng/_Uploads/180courtHamm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670720"/>
            <a:ext cx="213336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http://tbn0.google.com/images?q=tbn:J50M7FHvdr8NIM:http://clipart.peirceinternet.com/png/schoolhouse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91640" y="4648320"/>
            <a:ext cx="1152360" cy="1057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45720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though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blic schools may teach about religious holiday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including their religious aspects, and may celebrate the secular aspects of holidays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hools may not observe holidays as religious ev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 promote such observance by stud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484200" y="3049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8.  Religious Holida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255096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ject to applicable State laws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hool Boards may allow religious instruction off school property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If allowed, schools may not encourage or discourage participation or penalize those who do atte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06520" y="2133720"/>
            <a:ext cx="46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9. Released Time for Religious Instru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3520" y="4419720"/>
            <a:ext cx="82296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nerally, if secondary public schools have a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limited open foru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(allows non-curriculum clubs to meet), the school must allow religious groups the same access to the school media, (PA system, school newspaper, bulletin board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92120" y="37339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10.  Federal Equal Access 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2" descr="http://tbn0.google.com/images?q=tbn:mK8Yl1MTUiuAAM:http://www.easymilano.com/wp/wp-content/uploads/2009/04/us-flag.jpg"/>
          <p:cNvPicPr/>
          <p:nvPr/>
        </p:nvPicPr>
        <p:blipFill>
          <a:blip r:embed="rId3"/>
          <a:stretch/>
        </p:blipFill>
        <p:spPr>
          <a:xfrm>
            <a:off x="4419720" y="5562720"/>
            <a:ext cx="1181160" cy="88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14:57:45Z</dcterms:created>
  <dc:creator>Human Resources</dc:creator>
  <dc:description/>
  <dc:language>en-US</dc:language>
  <cp:lastModifiedBy>jshearer</cp:lastModifiedBy>
  <dcterms:modified xsi:type="dcterms:W3CDTF">2009-07-02T20:25:10Z</dcterms:modified>
  <cp:revision>60</cp:revision>
  <dc:subject/>
  <dc:title>S. C. Code Ann. 59-17-140</dc:title>
</cp:coreProperties>
</file>